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4D1-1D50-45BB-88FD-1865C47D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8FA4-2417-4ECE-919C-F95BFDF4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366D-3C93-44E2-92B5-53035A6C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897F-D723-4E96-9BED-CCE01B2F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878B-7131-4DDD-8CF9-ECF3D811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24BC-2748-4976-9A7F-0BB0DDDC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1D11-7C9E-4BFE-A3F5-70C4AD99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A2F9-C430-41DA-9EFA-8BB01983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E02A-E2B9-4D9F-B48A-E47EEBE7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2AE3-C8AC-4AB9-93FB-310B9B85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74CC-D54B-438E-8E6D-7C3CD318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24A-CCA4-4F70-86E1-A11DFFEC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0A73-BF87-4902-A833-D721CAEA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5E39-9431-4147-93F4-B7C4D236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57DF-708B-4D56-9121-FB5994EE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1581-B5D5-45B8-A6BB-FDDC3F0A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088C-63D2-46FF-8776-608D02D8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F4E3C-A18B-4330-8329-A4108FEB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CFD3E-6EE9-4121-BCDD-D2AAB42E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578A8-38B8-4E20-8747-10B45D45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94646-6778-4109-98CE-D8706C6D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68AB9-9F64-4714-B91D-51A22818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8C8-3D04-4ECC-978A-1AA1B243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12F20-D759-403A-B5C8-CABF6B93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D82B6-5B83-484E-B801-87BD8BED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21CFF-7378-409C-882A-50BC8E68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FE865-3941-4AEA-83F1-5B73492A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F52EF-9D86-40CB-8996-C49B1DF8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536E6-566A-4946-A409-9D7D21C3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75A4D-F55B-42E5-B11B-519C7290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760ED-2236-418F-8E85-3A9E74EE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1874B-83E6-47B0-9D22-B88794B9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4F9A1-A522-4138-BE1A-8D010B19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1AA8-5B61-4877-B217-3E94E458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B8448-7E6C-436D-BB7E-F904E5D2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0EFFD-128D-4DE8-B06D-8F3D4A81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E6C8E-71D4-4650-B077-55414325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39488-A8B9-4986-99A3-0630ADA3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BDBA3-6DD5-4CC1-B7B6-1C942B9D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56D0F-D390-43C0-8ABD-0103956A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6BB97-A95C-4361-87E3-D5BE3D7F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59ABF-8F86-441B-9314-1C07B1F1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2D895-6F6D-4989-B5DF-E5F7DBD3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C53DA-BE51-483C-B1A3-35C7B2E3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7679-7171-429F-867E-FFE6534C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331C2-4B54-420F-8D90-DDADD170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F38E5-FA35-4E03-B1A6-EE284E3E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A3630-63C4-42E7-BD7F-0317679D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99030-81E8-495A-A749-8C3688C3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76A7B-FAE7-4872-913E-019F1CD0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4FC7A-198C-486E-B86F-37A70A4F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0DF3A-A311-43B7-A619-31D5396F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0E014-AE3C-4830-A749-02C2F717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55E96-AE47-43CE-9398-8056127D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88171-5210-4891-B186-E66BFB3B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835A-A33E-4116-AA12-6A7DDEE2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F9C61-3556-4C40-A13B-8F569414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75978-366A-468C-A144-68377FE7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F8B70-3956-4B3E-B433-74C707C4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8FC00-9E9F-47A2-A594-C39C9167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A0CBE-7F62-4DC1-8B1E-BBA444C1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FC692-1588-4081-8B8A-3894D990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827E0-D04C-4D10-A912-8A4D9D1E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678AC-19A3-47A6-89FA-4B8A22B9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F077C-D0A5-4D39-9AE7-308A6A0C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C3E0A-8F47-4CA5-99F1-A1DD71FB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F56-4929-4214-91A1-327475F3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948DD-6BC9-443F-8021-677DF97C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9F3C1-4C3B-4A1E-8290-4F9369D8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A0E89-8BBD-45E4-AB1F-59D8FCB8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FA2C3-E08A-4290-B174-2B8687CD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6EB08-9B80-4768-86B7-ECC8C8AA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DCC2E-60F0-4075-9C2F-68271C0A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C8BCA-C996-445D-805E-580AFB36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45442-5AAC-4C0B-B4AB-9669A313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C6C3E-9752-4FBF-B21D-A6478007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105D5-D991-4C83-885E-ACAA874C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4FDF-3259-4B0D-8968-5D46799E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29CF5-FD06-4B0F-A621-44E7DD18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C206B-4186-46B2-95CA-6F13480F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68434-425D-4F91-87BD-747D669E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C7AAB-8AAA-4F4C-9F67-B4423F1C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7903B-8641-46C3-9183-737382C4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D60-82ED-4EF3-95BC-7D8D2A2E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B7A4-CAF0-4CF0-A2DA-A2560C62348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D6D5-C409-4A03-84C3-54F65249CC1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CE24-7180-4BF8-A75E-490B586D3B7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0DDB-4EA1-4514-B3FB-288841CF2DE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812D-8598-42B8-B514-83A4C340CEC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DA71-7406-47E8-9B42-98C96657D6C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4A22-86E1-4204-B1C2-5A509687990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jupiterimages.com/common/detail/73/93/2320937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ragmatism.org/american/puritanmigratio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stro.temple.edu/~gurwin/usatwarsyb2005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4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discuss the reasons for the Puritan’s settlement in America and to examine their way of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0" y="129528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Now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ich of the following freedoms would you give up if you had to choose one? 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Spee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* Pr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* Relig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* Trial by J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7" descr="232093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201840"/>
            <a:ext cx="45702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Accused witches experiencing deliverance by prayer"/>
          <p:cNvPicPr/>
          <p:nvPr/>
        </p:nvPicPr>
        <p:blipFill>
          <a:blip r:embed="rId1"/>
          <a:stretch/>
        </p:blipFill>
        <p:spPr>
          <a:xfrm>
            <a:off x="0" y="0"/>
            <a:ext cx="4570560" cy="6013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Victims of witchcraft persecution"/>
          <p:cNvPicPr/>
          <p:nvPr/>
        </p:nvPicPr>
        <p:blipFill>
          <a:blip r:embed="rId2"/>
          <a:stretch/>
        </p:blipFill>
        <p:spPr>
          <a:xfrm>
            <a:off x="4573440" y="0"/>
            <a:ext cx="457056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4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4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7" descr="grail07"/>
          <p:cNvPicPr/>
          <p:nvPr/>
        </p:nvPicPr>
        <p:blipFill>
          <a:blip r:embed="rId1"/>
          <a:stretch/>
        </p:blipFill>
        <p:spPr>
          <a:xfrm>
            <a:off x="0" y="990720"/>
            <a:ext cx="9058320" cy="501012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8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ch Scene – Monty Python and the Holy Gr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Oval 10"/>
          <p:cNvSpPr/>
          <p:nvPr/>
        </p:nvSpPr>
        <p:spPr>
          <a:xfrm>
            <a:off x="2819520" y="0"/>
            <a:ext cx="3047760" cy="1523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man Catho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11"/>
          <p:cNvSpPr/>
          <p:nvPr/>
        </p:nvSpPr>
        <p:spPr>
          <a:xfrm>
            <a:off x="4343400" y="152388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Oval 12"/>
          <p:cNvSpPr/>
          <p:nvPr/>
        </p:nvSpPr>
        <p:spPr>
          <a:xfrm>
            <a:off x="3200400" y="2057400"/>
            <a:ext cx="2362320" cy="1295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st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13"/>
          <p:cNvSpPr/>
          <p:nvPr/>
        </p:nvSpPr>
        <p:spPr>
          <a:xfrm>
            <a:off x="4343400" y="335268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14"/>
          <p:cNvSpPr/>
          <p:nvPr/>
        </p:nvSpPr>
        <p:spPr>
          <a:xfrm>
            <a:off x="5334120" y="3124080"/>
            <a:ext cx="533160" cy="228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 flipV="1">
            <a:off x="5562720" y="2438280"/>
            <a:ext cx="533160" cy="152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16"/>
          <p:cNvSpPr/>
          <p:nvPr/>
        </p:nvSpPr>
        <p:spPr>
          <a:xfrm flipH="1">
            <a:off x="3048120" y="3048120"/>
            <a:ext cx="30456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7"/>
          <p:cNvSpPr/>
          <p:nvPr/>
        </p:nvSpPr>
        <p:spPr>
          <a:xfrm flipH="1" flipV="1">
            <a:off x="2743200" y="2437920"/>
            <a:ext cx="457200" cy="228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18"/>
          <p:cNvSpPr/>
          <p:nvPr/>
        </p:nvSpPr>
        <p:spPr>
          <a:xfrm>
            <a:off x="914400" y="1981080"/>
            <a:ext cx="190512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p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19"/>
          <p:cNvSpPr/>
          <p:nvPr/>
        </p:nvSpPr>
        <p:spPr>
          <a:xfrm>
            <a:off x="457200" y="3124080"/>
            <a:ext cx="26668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byter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Oval 20"/>
          <p:cNvSpPr/>
          <p:nvPr/>
        </p:nvSpPr>
        <p:spPr>
          <a:xfrm>
            <a:off x="5867280" y="1676520"/>
            <a:ext cx="2819520" cy="990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piscopal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21"/>
          <p:cNvSpPr/>
          <p:nvPr/>
        </p:nvSpPr>
        <p:spPr>
          <a:xfrm>
            <a:off x="5791320" y="2971800"/>
            <a:ext cx="213336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ther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22"/>
          <p:cNvSpPr/>
          <p:nvPr/>
        </p:nvSpPr>
        <p:spPr>
          <a:xfrm>
            <a:off x="2971800" y="3886200"/>
            <a:ext cx="2819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urch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23"/>
          <p:cNvSpPr/>
          <p:nvPr/>
        </p:nvSpPr>
        <p:spPr>
          <a:xfrm flipH="1">
            <a:off x="2743200" y="4800600"/>
            <a:ext cx="45720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24"/>
          <p:cNvSpPr/>
          <p:nvPr/>
        </p:nvSpPr>
        <p:spPr>
          <a:xfrm>
            <a:off x="5562720" y="4800600"/>
            <a:ext cx="45720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25"/>
          <p:cNvSpPr/>
          <p:nvPr/>
        </p:nvSpPr>
        <p:spPr>
          <a:xfrm>
            <a:off x="838080" y="4952880"/>
            <a:ext cx="213372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it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Oval 26"/>
          <p:cNvSpPr/>
          <p:nvPr/>
        </p:nvSpPr>
        <p:spPr>
          <a:xfrm>
            <a:off x="5943600" y="4648320"/>
            <a:ext cx="2819520" cy="13716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paratis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Pilgri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27"/>
          <p:cNvSpPr/>
          <p:nvPr/>
        </p:nvSpPr>
        <p:spPr>
          <a:xfrm>
            <a:off x="0" y="5911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urit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a group of English Protestants that tried to simplify the Church of England in the 1600’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0" y="2286000"/>
            <a:ext cx="236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lish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ssen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aw America as a place where they could worship freel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0" y="56386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s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to disag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5" descr="puritanmigr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52680" y="920880"/>
            <a:ext cx="6691320" cy="593712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6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lan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ersecu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veryone that refused to agree with the Church of England. Ex.) Puritans, Separatists, Cathol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0" y="10666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ecut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mist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0" y="914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uritans wanted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or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urch of Engla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0" y="3429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do away with Catholic traditions, such as organ music and special clothes for pri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720" y="152388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for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0" y="2209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0" y="28195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pler forms of wo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5257800" y="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 Winthrop was the leader of the Purit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4" descr="ulrich_fig01b"/>
          <p:cNvPicPr/>
          <p:nvPr/>
        </p:nvPicPr>
        <p:blipFill>
          <a:blip r:embed="rId1"/>
          <a:stretch/>
        </p:blipFill>
        <p:spPr>
          <a:xfrm>
            <a:off x="0" y="0"/>
            <a:ext cx="52927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6095880" y="0"/>
            <a:ext cx="304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1629, the Puritans were granted a charter to form the Massachusetts Bay Comp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USAmapM"/>
          <p:cNvPicPr/>
          <p:nvPr/>
        </p:nvPicPr>
        <p:blipFill>
          <a:blip r:embed="rId1"/>
          <a:stretch/>
        </p:blipFill>
        <p:spPr>
          <a:xfrm>
            <a:off x="0" y="0"/>
            <a:ext cx="608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lations With Native Americ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0" y="609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Fighting increased as the Puritans settled on Native American 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5" descr="firstmuster">
            <a:hlinkClick r:id="rId1"/>
          </p:cNvPr>
          <p:cNvPicPr/>
          <p:nvPr/>
        </p:nvPicPr>
        <p:blipFill>
          <a:blip r:embed="rId2"/>
          <a:srcRect l="0" t="0" r="1128" b="0"/>
          <a:stretch/>
        </p:blipFill>
        <p:spPr>
          <a:xfrm>
            <a:off x="0" y="1709640"/>
            <a:ext cx="6553080" cy="48164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6"/>
          <p:cNvSpPr/>
          <p:nvPr/>
        </p:nvSpPr>
        <p:spPr>
          <a:xfrm>
            <a:off x="6477120" y="3809880"/>
            <a:ext cx="266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 village militia muster in Massachusetts Bay Colony, circa 1637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0" y="4630680"/>
            <a:ext cx="297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dancing and games were disapproved of, and illegal on the Sabb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4" descr="sbo0767l"/>
          <p:cNvPicPr/>
          <p:nvPr/>
        </p:nvPicPr>
        <p:blipFill>
          <a:blip r:embed="rId1"/>
          <a:stretch/>
        </p:blipFill>
        <p:spPr>
          <a:xfrm>
            <a:off x="3029040" y="6480"/>
            <a:ext cx="6114960" cy="68515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5"/>
          <p:cNvSpPr/>
          <p:nvPr/>
        </p:nvSpPr>
        <p:spPr>
          <a:xfrm>
            <a:off x="0" y="2514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Valu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0" y="320040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ligion and education were very import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0" y="53352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he Puritans worked very hard at farming, fishing, and hunting in order to become successf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360" y="0"/>
            <a:ext cx="19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Hard 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0" y="3048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0" y="1981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ches were blamed a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capegoa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their problem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ch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2880" y="5410080"/>
            <a:ext cx="766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capegoa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one that receives the blame for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4419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belief in the de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0" y="3505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mallp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0" y="3962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ative Americ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-720" y="0"/>
            <a:ext cx="91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he Puritans wanted Massachusetts to be a "City on the Hill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1:43:53Z</dcterms:created>
  <dc:creator>Adam Berlin</dc:creator>
  <dc:description/>
  <dc:language>en-US</dc:language>
  <cp:lastModifiedBy>Teacher</cp:lastModifiedBy>
  <dcterms:modified xsi:type="dcterms:W3CDTF">2009-09-21T00:28:14Z</dcterms:modified>
  <cp:revision>16</cp:revision>
  <dc:subject/>
  <dc:title>Slide 1</dc:title>
</cp:coreProperties>
</file>